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683-8CA9-4AC8-A6EC-40CF986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D36-C14B-4DAE-825F-C9E69555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0F4-D76E-4B1B-91FE-83FE017E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117-E561-4AB1-81BB-754F5FE6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4CE-BCD8-495B-8CC6-057C798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791-C617-41DB-8714-0800F870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A0E-346D-4A85-BAD7-4ADC379C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24A-5664-4C56-8AD9-BE4DB452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76F-E04C-4DAE-B398-181BD355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717-115A-493D-8565-6BE17A5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2BD-3B70-4AA9-96FF-D3559C6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B1C-EA8D-4507-899F-6175309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5B17-D0ED-40D9-B1A6-46F412BA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ell (Double Column)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paper into tw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title and divid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from Article on right hand side (Use symbols to illustrate ideas that go together like an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one, pick out the key points from your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(3-4) sentences- what the articl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449604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562720" y="2590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4038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Taking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4100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680400" y="5487840"/>
            <a:ext cx="22860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e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  Name  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590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99160" y="2209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223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3:38:25Z</dcterms:created>
  <dc:creator>Hazelwood Schoold District</dc:creator>
  <dc:description/>
  <dc:language>en-US</dc:language>
  <cp:lastModifiedBy>Hazelwood Schoold District</cp:lastModifiedBy>
  <dcterms:modified xsi:type="dcterms:W3CDTF">2009-02-03T13:39:21Z</dcterms:modified>
  <cp:revision>2</cp:revision>
  <dc:subject/>
  <dc:title>Slide 1</dc:title>
</cp:coreProperties>
</file>