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8A9-F4C7-42C6-9D0D-5B474BC4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42C-F685-40D8-974B-9B6CA45A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D1B-AD18-4F3C-BF65-39008882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B17-2E91-4563-A89A-8C67FD08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B7D-8C6D-454F-B567-9B202252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A52-EB17-4743-9878-BD4BD659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A33-33D5-4BF6-B66A-B0008FBA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80B-4AE7-4AE2-8A47-AF7CED2F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70C-DC1A-482A-9381-9AF4A994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DA7-ADE6-4331-A926-B590D63D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92A-63AD-4428-865A-0C98A9AB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C85-F7DD-492F-9B2A-4B585B7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ED7B-9E3D-4739-9478-3E889D00A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38:25Z</dcterms:created>
  <dc:creator>Hazelwood Schoold District</dc:creator>
  <dc:description/>
  <dc:language>en-US</dc:language>
  <cp:lastModifiedBy>Hazelwood Schoold District</cp:lastModifiedBy>
  <dcterms:modified xsi:type="dcterms:W3CDTF">2009-02-03T13:39:21Z</dcterms:modified>
  <cp:revision>2</cp:revision>
  <dc:subject/>
  <dc:title>Slide 1</dc:title>
</cp:coreProperties>
</file>