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853-C0D9-455B-9159-C09AAE01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B18-A44A-4B5A-AFC5-5A73CC00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2EB-83A4-49DF-8626-59958DEC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57A-5EBD-4ECA-A477-D0CC8F11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926-2759-4AEA-8455-5FA64C94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881-F66A-4BF3-9452-0A8E2961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DA5-D4EB-40FF-8382-D670F59C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FF3-AF3E-4F66-9963-45438E8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464-AC18-444E-95A7-CE9E9D03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BFA-E6AF-48F1-9C31-E414CD5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9CE-BC8F-4132-B97B-B5EED60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AAE-BFE1-41E3-B7EC-44FEDD0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1FBB-45CB-4EB5-9AEA-BC8270F9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38:25Z</dcterms:created>
  <dc:creator>Hazelwood Schoold District</dc:creator>
  <dc:description/>
  <dc:language>en-US</dc:language>
  <cp:lastModifiedBy>Hazelwood Schoold District</cp:lastModifiedBy>
  <dcterms:modified xsi:type="dcterms:W3CDTF">2009-02-03T13:39:21Z</dcterms:modified>
  <cp:revision>2</cp:revision>
  <dc:subject/>
  <dc:title>Slide 1</dc:title>
</cp:coreProperties>
</file>