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CB7-E0C8-46E9-98B1-D7B79D25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5D2-37C3-49A0-8E88-AF6176A5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710-CE51-4B50-A231-4F683812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39A-F0D9-40BE-918B-DB3D0C44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650-54F9-433A-9C1A-2D90F988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58A-F25D-48D0-A09B-6E944250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BF4-737B-4CF2-9C39-A46BB0FD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653-A5DC-4D57-B5F7-6C183A5F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2E4-68BA-41AA-9B7F-F590BD49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532-C2EA-4550-BA24-69A254BE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087-9750-44A0-A31C-55B6D8AD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1FD-EE93-4DE0-A620-F51E7A01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9CF4-283C-4D4D-8711-1A4369EB8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l (Double Column)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paper into tw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title and divid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from Article on right hand side (Use symbols to illustrate ideas that go together like an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one, pick out the key points from you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(3-4) sentences- what the articl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600200"/>
            <a:ext cx="449604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627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4038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ak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680400" y="5487840"/>
            <a:ext cx="2286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  Name  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590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99160" y="2209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23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l (Double Column)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paper into tw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title and divid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from Article on right hand side (Use symbols to illustrate ideas that go together like an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one, pick out the key points from you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(3-4) sentences- what the articl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449604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5627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4038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ak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680400" y="5487840"/>
            <a:ext cx="2286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  Name  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590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99160" y="2209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223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3:38:25Z</dcterms:created>
  <dc:creator>Hazelwood Schoold District</dc:creator>
  <dc:description/>
  <dc:language>en-US</dc:language>
  <cp:lastModifiedBy>Hazelwood Schoold District</cp:lastModifiedBy>
  <dcterms:modified xsi:type="dcterms:W3CDTF">2009-02-03T13:39:21Z</dcterms:modified>
  <cp:revision>2</cp:revision>
  <dc:subject/>
  <dc:title>Slide 1</dc:title>
</cp:coreProperties>
</file>